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A763-8B07-47B5-954E-300680C04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EBC-B566-4D65-9B3B-D5535B3E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0EE9CC-D2A1-4794-88A1-0F3FDCBA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63F7C8-841E-40CF-8CAA-0791CC72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A2D6AF-A66E-4DE7-9CB5-1224672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3FB647-BBF1-4E64-853E-8670A2CB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05D5D-686D-454F-8062-51C70381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AE19CB-48CA-46DE-8748-6631798F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EFC3BB-ED78-4B19-8ED2-E01260EE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562C6E-43FA-44AE-AA7D-7FA54DF5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A6BBD9-CC88-4DDF-AB6E-432FB9705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E6F2A8-A7D3-4CD6-BE38-BD4837550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94C6-4F58-453A-8292-C0234103B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215388-A9BA-41E1-BEDE-997F0DF2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E25078-4AC9-4306-9DA9-2092EAA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1E1D93-8072-41FA-9879-0DD6FD31A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503169-BB8B-40FF-9F13-121C7044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E5309F-B28E-4B8F-98D8-0E35B25F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1C6CFDE-F9C5-470C-B9A3-14406003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85D56C-01A5-4798-AFBF-50EA7C34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85D714-5B29-4438-AF90-D41A859D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2D2A27-2FAC-4555-A107-EEDAD5DF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E486EA-CC45-40A5-9B0A-C52E09BB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457C-BB82-48BA-9D4A-224994061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BAED5A4-C270-4377-BD96-E7B07288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A8C9E5-4C9E-4F07-ACF9-EB6A8AB6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AD90CC-5F73-4C98-B53A-9AFD842D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E5575D-088A-4758-B497-8260F24E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E49785-DA3F-4D19-BDC7-34C488AA4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1A5DC1-A3C2-49ED-95BC-A3AF47C56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B090F9-9A91-4BB2-B18C-1EECB740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73A4E2-07E6-4BFE-B216-24D52304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AEC9B8-5A6F-4519-BE9C-207E9422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5ACF0C4-E1C7-49AC-A47F-53487EAF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A626-FF2E-42D9-828B-210284C20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B4D049-1C4C-4DE7-8C3C-A10346FB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3ABF27-6A3B-4528-9A38-A8F2E54D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1D34B9-4059-4C72-AF72-093B14A0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83F6EF-3D1B-4F8E-8771-2CADAB71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5CC6E7E-3A21-4311-9564-FAEA4FFB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67149E8-B3FC-4001-B3E6-34A6C390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517C35-3BE1-4650-A24A-5A583FD4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720688D-AAD4-4EF6-A381-1431B2D5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EC1A7A-9FE6-4BF1-8946-D608C206F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4BB8E0-4F12-4140-9F96-BF027094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C29AE-CDB2-4720-A9AC-6F67E40A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BDFC047-8101-475D-BE55-EB4B6135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349BE46-DFE2-4C8C-96E4-D44639E5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EB34CE-6108-4F74-B808-C155A364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40482F-BDEA-4FCA-9692-80853E5FE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E6CB8B3-7B15-48EA-9991-07D5B62C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4E20FE-B8E7-4A2D-B700-D59BC539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A68662-9614-432E-AC43-C543182C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38EFF1-E06E-4143-AFBE-779ABB19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ADE049-6BD0-4A72-882F-28BEAECA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6FCE2AA-6D5A-470B-A6A6-4636FE98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9676-40EF-4DBF-9ADF-0A77C7E46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41FBC0-767A-49C9-9138-DE07DAEE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A61F03-FA48-4BF5-B59F-3F8296E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E7E6853-A066-4936-B491-C20261A6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908F36-FEA0-428B-B25D-6C9E933C5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02203E-69F7-4F66-86FA-247849AF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329D813-F9DD-441E-954D-52707A8AC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050B377-9B9A-41DF-82D9-FD59B943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AF13F25-AAD2-41DB-AB5B-153EABB6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2DFAB45-03EE-45FC-A396-149615F1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D85B772-84AF-4DBF-8762-14EA75A6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24C1-A03B-4AC9-952E-39248F74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73E8A1-1940-4201-89A9-0B18CBD2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43B4033-0BFA-486D-9285-EFB35B26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1899F0-D004-4E3C-AF9C-7875823E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7F2DBEC-6340-4A3B-AEFA-AE7B656B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1F9D8D-8A15-422F-A877-314B57A86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EE94284-45B3-4A50-8830-161ACA24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CBBE57-A220-43B7-B516-E03A2203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5A4D07-8B90-4AD5-9C21-5DDECD311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2B94B5E-8322-4694-AC3E-37DFA67C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CB5D1D-2F2B-416A-82BB-27ADC23A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4CC2-B6DE-4438-91FF-5C8C477D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67F1F0-AEDC-4B28-85DC-82E3B21D6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70553AA-972D-4FF2-A818-53BA2FA8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5F372F6-C8AE-4FCA-B919-3514E2CA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30C81E5-65F8-4CC9-8FF8-9E71C872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89FD808-7800-41EE-B21A-34E21889E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6C63CB6-A7A9-4DDD-89B4-0EF0EB09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CA13E53-4A30-4515-B406-D27E947B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60564CC-6E90-4CD4-A4D8-384C4CB6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76C4E0-7E9B-49B8-87B1-16330CF9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2C88FD-34BF-4D97-950C-BD8954BB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0F61-0F7E-4D03-855C-65243D76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1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2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D93FB3-3579-44BF-AFB8-21CDEC7BF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D9DC-E4D3-45BF-8EF0-14547EC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CD5A-1462-4756-A97F-13F3EA94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8A28-49F8-4D76-8768-75238340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EE1F-3140-4F3B-B883-635C9524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CC58-1A9A-47C2-BF6D-D7EC8B7A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0DB2-CBE3-4C57-B83F-24B3AA061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1DAC-05D2-4C08-8795-182143F8D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875C-45B8-4AEB-9CAE-A9760CBD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A3F5-A658-40BE-844F-596C24F7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D88A0-8380-4D0F-932F-3FD6DBC0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D73E-32F3-44C9-BA7D-077D3EFE1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4E8E-C528-4D5B-9459-A5F045CB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A64-18F7-4888-B8F5-664CFC8D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A7274-50E6-4FE2-B786-B3F9A268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96B3A-1DDD-425A-BE35-4300F34F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79021-9499-45BE-8576-135869C3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0F578-74A1-4DE7-9F1E-19B61238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03E5-CE17-4A01-BE32-F2A80D68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07F0C-5245-4CD0-B651-BCA9D9E9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CC14C-CBEC-477A-85E8-69B80404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CEAD-C73A-4278-A3B1-3145E414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E3C3B3-69A3-42D3-80B6-A7B56E01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C1D4-24CC-4EE5-A293-7CF76578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218C97-1D14-4AB4-89AB-D9C2B012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29AF4C-E78B-4BF4-8969-2F0181FE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85E97-02A3-49AC-9D3D-400B7951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129A76-E227-43BA-9812-BD1C4796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9901B5-3582-426F-94D4-0CDA611F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742D34-5333-4049-9784-56120548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E8AA2C-8114-45BA-A15E-8688886A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E4D663-30EC-4C71-A38A-4B948D19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FE5C64-8322-4A17-9734-5BB18FC7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049F6-E1C5-4934-8AE5-F30AB2E4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941E-9D8C-4CF4-BD72-5AEB1100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E0EF1-F677-46CE-A4EB-06636B625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6BE88E-F25F-4B5A-934D-BACFD79B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6F9B1-18E2-4022-ABAB-B979DE7E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226D97-EBC4-4F5B-8BE5-A230AA28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439EC-7D60-45B2-86DC-A8F526EDA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B9355E-5D64-4F5C-BB3A-D5B3CD72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0A32C-FD82-41B1-8EB3-239DC4DD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69C1E-C12D-449A-BB0E-5F2729E2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837C96-B64F-420F-9E7B-12FCD9C4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EA3B58-21BC-47B8-9FEF-4D0241ED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6B1C-8CCA-4A26-B896-67FF0D73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AE13C-F20C-4DC5-A130-B1E1EBC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58ED1-EE61-4985-A48E-B267A698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9E3476-3F8E-4031-B6DD-729748C8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7C1D3-6D95-4A61-8E0C-C9811C2B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04ABE0-77BC-43F1-9B76-5CF5FD8EA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C9822D-EFD7-4CD1-9F04-A57EC9B8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17F1BA-BCA1-454C-BD7E-271800A6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81663C-EF99-4270-9D32-9FB5E159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C26336-1801-454E-8A4C-29D20444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C151BD-73D1-4B50-A7FF-B262D0E1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9999-367D-4B57-BE5D-736B4EBE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03D0D4-32B8-4B5F-AADA-41AFA18D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400DBB-C665-43E6-8366-6C4CE3DC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77407D-5D5B-43D1-804C-C907146F9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078C60-7CD0-48F6-93DD-CDC0224A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F4792-2EC7-4ED5-A9C8-96F842DD5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93D76-A0D0-47BF-99E8-3DA12288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8E3FBB-5863-4368-9941-80F0611B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B96EEF-FE71-4E48-B553-5D5A32A20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9EA89-FB77-46BA-A089-D3860C60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BAAC31-7BFF-44F0-986D-13FC45D8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86D7-FA39-4358-A8CF-BE4BBABD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00000" y="244440"/>
            <a:ext cx="734544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BB064C-9D62-46B4-B717-1CBA3F3B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6C23014-505E-4F78-8B2C-67BD808E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49859A-BBE8-460B-B784-7B2EDBE6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F3C70-DDCF-4014-A6A9-B2167E22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00000" y="4187520"/>
            <a:ext cx="73454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E153DF-E1F8-4395-AAD1-7A8A084E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4160" y="213336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0000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64160" y="4187520"/>
            <a:ext cx="358452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3E3A0A-AC88-4B58-83D4-4BFF9A27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38364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866920" y="213336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0000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38364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866920" y="4187520"/>
            <a:ext cx="2364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D5F857-BE6E-4239-8297-25BA43504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5A7533-C194-437D-A224-38D51B58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4F495A-5546-4B21-8B20-7C7BE49D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410721-6299-4C78-846B-A06D316DA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333A27-226D-449F-B8D3-351D4E2986AA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CC8F15-47E2-407A-98EA-259BC9FC7946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4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15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16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7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18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19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20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2568D-22A3-41D7-A2CC-4F4E7FF6F78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177048-D8B0-427B-8A7F-B0DF9318E29D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3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46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46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6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46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46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46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9" name="Rectangle 13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0" name="Rectangle 14"/>
          <p:cNvSpPr/>
          <p:nvPr/>
        </p:nvSpPr>
        <p:spPr>
          <a:xfrm rot="10800000">
            <a:off x="258840" y="1593000"/>
            <a:ext cx="3574800" cy="651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0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1DB7DB-0758-4907-BB1B-5665488E344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1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2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68FAE-3AFE-4263-9FD8-3FFFDE9F8A01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32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grpSp>
          <p:nvGrpSpPr>
            <p:cNvPr id="513" name="Group 26"/>
            <p:cNvGrpSpPr/>
            <p:nvPr/>
          </p:nvGrpSpPr>
          <p:grpSpPr>
            <a:xfrm>
              <a:off x="182520" y="173160"/>
              <a:ext cx="8778960" cy="6511680"/>
              <a:chOff x="182520" y="173160"/>
              <a:chExt cx="8778960" cy="6511680"/>
            </a:xfrm>
          </p:grpSpPr>
          <p:pic>
            <p:nvPicPr>
              <p:cNvPr id="514" name="Picture 9" descr="PaperPanel-Base.jpg"/>
              <p:cNvPicPr/>
              <p:nvPr/>
            </p:nvPicPr>
            <p:blipFill>
              <a:blip r:embed="rId3"/>
              <a:stretch/>
            </p:blipFill>
            <p:spPr>
              <a:xfrm>
                <a:off x="182520" y="173160"/>
                <a:ext cx="8778960" cy="65116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15" name="Group 10"/>
              <p:cNvGrpSpPr/>
              <p:nvPr/>
            </p:nvGrpSpPr>
            <p:grpSpPr>
              <a:xfrm>
                <a:off x="378000" y="349560"/>
                <a:ext cx="8384760" cy="6146640"/>
                <a:chOff x="378000" y="349560"/>
                <a:chExt cx="8384760" cy="6146640"/>
              </a:xfrm>
            </p:grpSpPr>
            <p:sp>
              <p:nvSpPr>
                <p:cNvPr id="516" name="Rectangle 11"/>
                <p:cNvSpPr/>
                <p:nvPr/>
              </p:nvSpPr>
              <p:spPr>
                <a:xfrm>
                  <a:off x="378000" y="349560"/>
                  <a:ext cx="8384760" cy="6146640"/>
                </a:xfrm>
                <a:prstGeom prst="rect">
                  <a:avLst/>
                </a:prstGeom>
                <a:noFill/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  <p:sp>
              <p:nvSpPr>
                <p:cNvPr id="517" name="Straight Connector 12"/>
                <p:cNvSpPr/>
                <p:nvPr/>
              </p:nvSpPr>
              <p:spPr>
                <a:xfrm>
                  <a:off x="378000" y="6281280"/>
                  <a:ext cx="8384760" cy="1440"/>
                </a:xfrm>
                <a:prstGeom prst="line">
                  <a:avLst/>
                </a:prstGeom>
                <a:ln w="12600">
                  <a:solidFill>
                    <a:srgbClr val="bebdb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sto MT"/>
                  </a:endParaRPr>
                </a:p>
              </p:txBody>
            </p:sp>
          </p:grpSp>
        </p:grpSp>
        <p:sp>
          <p:nvSpPr>
            <p:cNvPr id="518" name="Rectangle 8"/>
            <p:cNvSpPr/>
            <p:nvPr/>
          </p:nvSpPr>
          <p:spPr>
            <a:xfrm rot="5400000">
              <a:off x="799560" y="3274200"/>
              <a:ext cx="6136920" cy="637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3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E0FEF4-563B-4659-B875-ED6441EDBCE8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4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5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AEDF0B-6E3D-431B-A339-AA9D526132C0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561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2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563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564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565" name="Rectangle 11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6" name="Rectangle 12"/>
          <p:cNvSpPr/>
          <p:nvPr/>
        </p:nvSpPr>
        <p:spPr>
          <a:xfrm>
            <a:off x="255600" y="4203720"/>
            <a:ext cx="86234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6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C2736-2DB2-48D6-97A3-C72E3C1E424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7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8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EE9222-57DC-41F9-9B0D-0380B8CBEC05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0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1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13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39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EBF25-7ABD-4101-825D-A95E4D07B04C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ftr" idx="40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sldNum" idx="41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58D23A-008B-4525-AC36-B04DDDF62D4B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5" name="Group 19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65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65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65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660" name="Rectangle 11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1" name="Rectangle 12"/>
          <p:cNvSpPr/>
          <p:nvPr/>
        </p:nvSpPr>
        <p:spPr>
          <a:xfrm rot="5400000">
            <a:off x="4242240" y="3274200"/>
            <a:ext cx="6135840" cy="63360"/>
          </a:xfrm>
          <a:prstGeom prst="rect">
            <a:avLst/>
          </a:prstGeom>
          <a:solidFill>
            <a:srgbClr val="cbd2d5"/>
          </a:solidFill>
          <a:ln w="3240">
            <a:solidFill>
              <a:srgbClr val="d1d0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4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CA000B-5278-4CAB-A27F-00B916522279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ftr" idx="4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 type="sldNum" idx="4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20CC2-694F-459F-BB49-38E69A8DCB86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7"/>
          <p:cNvGrpSpPr/>
          <p:nvPr/>
        </p:nvGrpSpPr>
        <p:grpSpPr>
          <a:xfrm>
            <a:off x="487440" y="411120"/>
            <a:ext cx="8169120" cy="6035760"/>
            <a:chOff x="487440" y="411120"/>
            <a:chExt cx="8169120" cy="6035760"/>
          </a:xfrm>
        </p:grpSpPr>
        <p:pic>
          <p:nvPicPr>
            <p:cNvPr id="42" name="Picture 7" descr="PaperPanel-Title.jpg"/>
            <p:cNvPicPr/>
            <p:nvPr/>
          </p:nvPicPr>
          <p:blipFill>
            <a:blip r:embed="rId3"/>
            <a:stretch/>
          </p:blipFill>
          <p:spPr>
            <a:xfrm>
              <a:off x="487440" y="411120"/>
              <a:ext cx="816912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Rectangle 8"/>
            <p:cNvSpPr/>
            <p:nvPr/>
          </p:nvSpPr>
          <p:spPr>
            <a:xfrm>
              <a:off x="684360" y="581400"/>
              <a:ext cx="7746480" cy="56829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684360" y="6042240"/>
              <a:ext cx="7746480" cy="108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684360" y="563760"/>
              <a:ext cx="7746480" cy="2488320"/>
            </a:xfrm>
            <a:prstGeom prst="rect">
              <a:avLst/>
            </a:prstGeom>
            <a:solidFill>
              <a:srgbClr val="cbd2d5"/>
            </a:solidFill>
            <a:ln w="3240">
              <a:solidFill>
                <a:srgbClr val="d1d0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276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502FC-B26A-4A12-98D0-6C14F4B08C52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638680" y="6122520"/>
            <a:ext cx="2895840" cy="2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91120" y="612288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96C29-0DA5-49DB-88ED-730781F486B0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5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88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90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1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92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A103B-4019-4B05-8A35-FE48BD75AB47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E99470-E652-437F-9F1D-07677B2B787B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PaperPanel-Title.jpg"/>
          <p:cNvPicPr/>
          <p:nvPr/>
        </p:nvPicPr>
        <p:blipFill>
          <a:blip r:embed="rId3"/>
          <a:stretch/>
        </p:blipFill>
        <p:spPr>
          <a:xfrm>
            <a:off x="360360" y="298440"/>
            <a:ext cx="8418600" cy="6254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1"/>
          <p:cNvGrpSpPr/>
          <p:nvPr/>
        </p:nvGrpSpPr>
        <p:grpSpPr>
          <a:xfrm>
            <a:off x="563400" y="476280"/>
            <a:ext cx="7982280" cy="5888160"/>
            <a:chOff x="563400" y="476280"/>
            <a:chExt cx="7982280" cy="5888160"/>
          </a:xfrm>
        </p:grpSpPr>
        <p:sp>
          <p:nvSpPr>
            <p:cNvPr id="136" name="Rectangle 8"/>
            <p:cNvSpPr/>
            <p:nvPr/>
          </p:nvSpPr>
          <p:spPr>
            <a:xfrm>
              <a:off x="563400" y="476280"/>
              <a:ext cx="7982280" cy="5888160"/>
            </a:xfrm>
            <a:prstGeom prst="rect">
              <a:avLst/>
            </a:prstGeom>
            <a:noFill/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7" name="Straight Connector 9"/>
            <p:cNvSpPr/>
            <p:nvPr/>
          </p:nvSpPr>
          <p:spPr>
            <a:xfrm>
              <a:off x="563400" y="613404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  <p:sp>
          <p:nvSpPr>
            <p:cNvPr id="138" name="Straight Connector 10"/>
            <p:cNvSpPr/>
            <p:nvPr/>
          </p:nvSpPr>
          <p:spPr>
            <a:xfrm>
              <a:off x="563400" y="3427920"/>
              <a:ext cx="7982280" cy="1440"/>
            </a:xfrm>
            <a:prstGeom prst="line">
              <a:avLst/>
            </a:prstGeom>
            <a:ln w="12600">
              <a:solidFill>
                <a:srgbClr val="bebd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sto MT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69520" y="612252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F7B08F-2B82-4181-8245-83FF1A4B5ED5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638680" y="6124680"/>
            <a:ext cx="289584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180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182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183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45397E-FDC4-485C-B945-B9661EA4C673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3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4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84571C-C9C4-40C8-9112-09B78103D8EF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13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26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28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29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5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4AE1B-CE3E-4DF2-BD88-CFAE9DDAB990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6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7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D81FAB-1778-4425-8069-F9F3696666E6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6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273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4" name="Group 8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275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6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277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278" name="Straight Connector 12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79" name="Straight Connector 13"/>
          <p:cNvSpPr/>
          <p:nvPr/>
        </p:nvSpPr>
        <p:spPr>
          <a:xfrm>
            <a:off x="4572000" y="1671480"/>
            <a:ext cx="1440" cy="4711680"/>
          </a:xfrm>
          <a:prstGeom prst="line">
            <a:avLst/>
          </a:prstGeom>
          <a:ln w="12600">
            <a:solidFill>
              <a:srgbClr val="bebd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8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038062-6D4E-489A-89AE-CBF2446B99FB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19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0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0C9E4F-834A-4333-83F2-5293037DCAA9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18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22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3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24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5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26" name="Rectangle 11"/>
              <p:cNvSpPr/>
              <p:nvPr/>
            </p:nvSpPr>
            <p:spPr>
              <a:xfrm>
                <a:off x="378000" y="1667880"/>
                <a:ext cx="8384760" cy="61560"/>
              </a:xfrm>
              <a:prstGeom prst="rect">
                <a:avLst/>
              </a:prstGeom>
              <a:solidFill>
                <a:srgbClr val="cbd2d5"/>
              </a:solidFill>
              <a:ln w="3240">
                <a:solidFill>
                  <a:srgbClr val="d1d0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1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513964-FB83-44AF-AD8B-33F382A62D4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2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3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43AA2-D204-4B3B-9B48-E447F55E4AD7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17"/>
          <p:cNvGrpSpPr/>
          <p:nvPr/>
        </p:nvGrpSpPr>
        <p:grpSpPr>
          <a:xfrm>
            <a:off x="182520" y="173160"/>
            <a:ext cx="8778960" cy="6511680"/>
            <a:chOff x="182520" y="173160"/>
            <a:chExt cx="8778960" cy="6511680"/>
          </a:xfrm>
        </p:grpSpPr>
        <p:pic>
          <p:nvPicPr>
            <p:cNvPr id="369" name="Picture 7" descr="PaperPanel-Base.jpg"/>
            <p:cNvPicPr/>
            <p:nvPr/>
          </p:nvPicPr>
          <p:blipFill>
            <a:blip r:embed="rId3"/>
            <a:stretch/>
          </p:blipFill>
          <p:spPr>
            <a:xfrm>
              <a:off x="182520" y="173160"/>
              <a:ext cx="8778960" cy="6511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0" name="Group 10"/>
            <p:cNvGrpSpPr/>
            <p:nvPr/>
          </p:nvGrpSpPr>
          <p:grpSpPr>
            <a:xfrm>
              <a:off x="378000" y="349560"/>
              <a:ext cx="8384760" cy="6146640"/>
              <a:chOff x="378000" y="349560"/>
              <a:chExt cx="8384760" cy="6146640"/>
            </a:xfrm>
          </p:grpSpPr>
          <p:sp>
            <p:nvSpPr>
              <p:cNvPr id="371" name="Rectangle 9"/>
              <p:cNvSpPr/>
              <p:nvPr/>
            </p:nvSpPr>
            <p:spPr>
              <a:xfrm>
                <a:off x="378000" y="349560"/>
                <a:ext cx="8384760" cy="6146640"/>
              </a:xfrm>
              <a:prstGeom prst="rect">
                <a:avLst/>
              </a:prstGeom>
              <a:noFill/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  <p:sp>
            <p:nvSpPr>
              <p:cNvPr id="372" name="Straight Connector 10"/>
              <p:cNvSpPr/>
              <p:nvPr/>
            </p:nvSpPr>
            <p:spPr>
              <a:xfrm>
                <a:off x="378000" y="6281280"/>
                <a:ext cx="8384760" cy="1440"/>
              </a:xfrm>
              <a:prstGeom prst="line">
                <a:avLst/>
              </a:prstGeom>
              <a:ln w="12600">
                <a:solidFill>
                  <a:srgbClr val="bebd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sto MT"/>
                </a:endParaRPr>
              </a:p>
            </p:txBody>
          </p:sp>
        </p:grp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1" marL="54468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2" marL="75960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3" marL="974520" indent="-214560">
              <a:spcBef>
                <a:spcPts val="2001"/>
              </a:spcBef>
              <a:buClr>
                <a:srgbClr val="b0bcc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4" marL="1189440" indent="-21456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5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lvl="6" marL="1189440" indent="-21456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4"/>
          </p:nvPr>
        </p:nvSpPr>
        <p:spPr>
          <a:xfrm>
            <a:off x="244080" y="6372360"/>
            <a:ext cx="2133720" cy="25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Brush Script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EFFD65-086D-4F62-AD3A-57CA913F306D}" type="datetime">
              <a:rPr b="0" lang="en-US" sz="1200" spc="-1" strike="noStrike">
                <a:solidFill>
                  <a:srgbClr val="b0bcc1"/>
                </a:solidFill>
                <a:latin typeface="Brush Script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5"/>
          </p:nvPr>
        </p:nvSpPr>
        <p:spPr>
          <a:xfrm>
            <a:off x="5959080" y="6372360"/>
            <a:ext cx="2895480" cy="2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sto MT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6"/>
          </p:nvPr>
        </p:nvSpPr>
        <p:spPr>
          <a:xfrm>
            <a:off x="4191120" y="6356520"/>
            <a:ext cx="76176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b0bcc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DB568-5486-461F-B63F-0AAD0EDF0DB3}" type="slidenum">
              <a:rPr b="0" lang="en-US" sz="1200" spc="-1" strike="noStrike">
                <a:solidFill>
                  <a:srgbClr val="b0bc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orldproblemsshroder.wikispaces.com/7.+Week+4+(Jan+24+to+Jan+28)" TargetMode="Externa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1123560"/>
            <a:ext cx="7342200" cy="192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04040"/>
                </a:solidFill>
                <a:latin typeface="Calisto MT"/>
              </a:rPr>
              <a:t>Becoming a Child Soldier Script</a:t>
            </a:r>
            <a:endParaRPr b="0" lang="en-US" sz="54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Mr. Rush/ Mr. Farrell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Question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y do people join gangs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Prediction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08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Why does Ishmael Beah become such a child soldier?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Compare/ Contras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Compare/ Contrast why gang members in America join gangs and why Ishmael Beah’s becomes a child soldier.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2 Similaritie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3 Differences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What we will do today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31440" y="1709280"/>
            <a:ext cx="3567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What we will do today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631440" y="2590560"/>
            <a:ext cx="35672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Question- join gangs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Predict- why Ishmael a child soldier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Compare/ Contrast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Script Chapter 12: Why Ishmael Beah becomes a child soldier.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944600" y="1709280"/>
            <a:ext cx="35672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sto MT"/>
              </a:rPr>
              <a:t>Objectives</a:t>
            </a:r>
            <a:endParaRPr b="0" lang="en-US" sz="2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4944600" y="2590560"/>
            <a:ext cx="356724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sto MT"/>
              </a:rPr>
              <a:t>Analyze the results of political, economic, and social oppression and the violation of human rights </a:t>
            </a: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00000" y="244440"/>
            <a:ext cx="7345440" cy="13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sto MT"/>
              </a:rPr>
              <a:t>Script</a:t>
            </a:r>
            <a:endParaRPr b="0" lang="en-US" sz="4800" spc="-1" strike="noStrike">
              <a:solidFill>
                <a:srgbClr val="404040"/>
              </a:solidFill>
              <a:latin typeface="Calisto MT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900000" y="2133360"/>
            <a:ext cx="73454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24a82"/>
                </a:solidFill>
                <a:uFillTx/>
                <a:latin typeface="Calisto MT"/>
                <a:hlinkClick r:id="rId2"/>
              </a:rPr>
              <a:t>http://worldproblemsshroder.wikispaces.com/7.+Week+4+%28Jan+24+to+Jan+28%29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Groups- Assigned by paper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Read Chapter 12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End of today- atttach 1 page draft to craigrushxu@gmail.com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sto MT"/>
              </a:rPr>
              <a:t>Final Draft due tmw.  </a:t>
            </a:r>
            <a:endParaRPr b="0" lang="en-US" sz="2400" spc="-1" strike="noStrike">
              <a:solidFill>
                <a:srgbClr val="404040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21:17:15Z</dcterms:created>
  <dc:creator>Craig Rush</dc:creator>
  <dc:description/>
  <dc:language>en-US</dc:language>
  <cp:lastModifiedBy>Craig Rush</cp:lastModifiedBy>
  <dcterms:modified xsi:type="dcterms:W3CDTF">2011-01-23T21:24:41Z</dcterms:modified>
  <cp:revision>1</cp:revision>
  <dc:subject/>
  <dc:title>Becoming a Child Soldier Script</dc:title>
</cp:coreProperties>
</file>